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6.png" ContentType="image/png"/>
  <Override PartName="/ppt/media/image25.jpeg" ContentType="image/jpeg"/>
  <Override PartName="/ppt/media/image3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38.jpeg" ContentType="image/jpeg"/>
  <Override PartName="/ppt/media/image9.png" ContentType="image/png"/>
  <Override PartName="/ppt/media/image39.png" ContentType="image/png"/>
  <Override PartName="/ppt/media/image30.jpeg" ContentType="image/jpeg"/>
  <Override PartName="/ppt/media/image31.jpeg" ContentType="image/jpeg"/>
  <Override PartName="/ppt/media/image8.png" ContentType="image/png"/>
  <Override PartName="/ppt/media/image41.wmf" ContentType="image/x-wmf"/>
  <Override PartName="/ppt/media/image42.png" ContentType="image/png"/>
  <Override PartName="/ppt/media/image23.jpeg" ContentType="image/jpeg"/>
  <Override PartName="/ppt/media/image43.wmf" ContentType="image/x-wmf"/>
  <Override PartName="/ppt/media/image34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10.png" ContentType="image/png"/>
  <Override PartName="/ppt/media/image35.jpeg" ContentType="image/jpeg"/>
  <Override PartName="/ppt/media/image4.wmf" ContentType="image/x-wmf"/>
  <Override PartName="/ppt/media/image40.jpeg" ContentType="image/jpeg"/>
  <Override PartName="/ppt/media/image13.jpeg" ContentType="image/jpeg"/>
  <Override PartName="/ppt/media/image44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914E-FF12-4E2D-8998-FF2B306D1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E07F-7ACF-45E2-88EB-EF0BA321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16B9-C678-41EA-8583-FFE8D5361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D608-9F11-4FBB-AD08-203FB997C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74EF-C5D6-4F8D-A009-DBFC692AE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397B-346F-4BC8-B209-BFC2C3361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E3E9-0555-4607-B4A7-256D7E9DA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0CDC-62F2-4021-8F67-7F5C26470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C831-DF1D-47BD-8C13-44816061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C203-A0DC-482C-82D6-B6157EC9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A9EA-5C10-4234-A427-238757CD6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6976-3859-4C0D-9D19-AF37E6B79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D259-5395-4C67-8CB1-011CD2368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7CE3-2BE1-4626-BCC3-1FC576BF6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89A4-D9C3-4440-BAF1-E5B9E3E08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7E2C-70F6-4ED0-9C25-4E76B110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530C-DFE1-4805-94EA-60E997008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CED4-FF5E-4CD1-BCD6-72478F0B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DCF1-83E3-4F84-B1E6-0ABB8AFA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F7A2-3AAC-4FBB-B964-0241F73D5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4519-AB22-4333-B857-18B2AA5F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02BD-E493-4914-8EBF-67968C6A6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647-9179-4966-9D26-983CB364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3013-1EF5-456B-AFCB-4E2BC958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6DBF-07E7-48A8-A9B2-80AB355F3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9FB2-164B-4C89-A8F9-16C39A356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4B6E-CDCA-4B51-903D-4333A3D20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7722-94CE-401C-AE07-C311A8AB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427-7E7D-4D43-95F4-07D7E001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3917-30C8-4E3E-9DD5-595A3011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176-CA1C-41D0-A05D-44165C3A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6D8-660F-43C5-BF21-64D7B4AD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027C-8617-49F5-A8BD-274C402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793-265D-495C-AA35-7F845F4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728-6E4C-4D5A-AD93-C0A9DBA9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1F6-6E03-4A1A-BB0E-0AEF5E74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F24-BA3B-4D0F-B9F3-5624BF97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39A-76A4-401A-8EFA-BA8B564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95A-183E-4088-8B04-2E008F67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50C-F9DE-4992-A1C4-01BA6861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A7FC-844C-49AA-91B1-31AD551C4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ssibket.blogspot.com/" TargetMode="External"/><Relationship Id="rId2" Type="http://schemas.openxmlformats.org/officeDocument/2006/relationships/hyperlink" Target="http://www.missibket.wikispaces.com/" TargetMode="External"/><Relationship Id="rId3" Type="http://schemas.openxmlformats.org/officeDocument/2006/relationships/hyperlink" Target="http://cwarnerket.wikidot.com/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streaming.discoveryeducation.com/index.cf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index.cfm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treaming.discoveryeducation.com/index.cfm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instein1.wp3.wmv/" TargetMode="External"/><Relationship Id="rId2" Type="http://schemas.openxmlformats.org/officeDocument/2006/relationships/hyperlink" Target="http://Einstein1.wp3.wmv/" TargetMode="External"/><Relationship Id="rId3" Type="http://schemas.openxmlformats.org/officeDocument/2006/relationships/slide" Target="slide20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24.xml"/><Relationship Id="rId8" Type="http://schemas.openxmlformats.org/officeDocument/2006/relationships/slide" Target="slide19.xml"/><Relationship Id="rId9" Type="http://schemas.openxmlformats.org/officeDocument/2006/relationships/slide" Target="slide25.xml"/><Relationship Id="rId10" Type="http://schemas.openxmlformats.org/officeDocument/2006/relationships/slide" Target=""/><Relationship Id="rId11" Type="http://schemas.openxmlformats.org/officeDocument/2006/relationships/hyperlink" Target="http://www.voki.com/" TargetMode="External"/><Relationship Id="rId12" Type="http://schemas.openxmlformats.org/officeDocument/2006/relationships/slide" Target="slide32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lmoore@ket.org" TargetMode="External"/><Relationship Id="rId2" Type="http://schemas.openxmlformats.org/officeDocument/2006/relationships/image" Target="../media/image3.wmf"/><Relationship Id="rId3" Type="http://schemas.openxmlformats.org/officeDocument/2006/relationships/hyperlink" Target="http://lmooreketresources.wikispaces.com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ket.org/trips/forest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hyperlink" Target="file:///Inspiration%20owl%20web/Bats__The_Only_True_Flying_Mammals.asf" TargetMode="Externa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Inspiration%20owl%20web/Bats__The_Only_True_Flying_Mammals.asf" TargetMode="External"/><Relationship Id="rId2" Type="http://schemas.openxmlformats.org/officeDocument/2006/relationships/hyperlink" Target="file:///Inspiration%20owl%20web/Bats__The_Only_True_Flying_Mammals.asf" TargetMode="External"/><Relationship Id="rId3" Type="http://schemas.openxmlformats.org/officeDocument/2006/relationships/hyperlink" Target="file:///Inspiration%20owl%20web/Bats__The_Only_True_Flying_Mammals.asf" TargetMode="External"/><Relationship Id="rId4" Type="http://schemas.openxmlformats.org/officeDocument/2006/relationships/image" Target="../media/image34.png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hyperlink" Target="http://www.ket.org/education/professional/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et.org/artstoolkit/" TargetMode="External"/><Relationship Id="rId2" Type="http://schemas.openxmlformats.org/officeDocument/2006/relationships/hyperlink" Target="http://www.ket.org/artstoolkit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l.ket.org/physicslabs/labs/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et.org/trips" TargetMode="External"/><Relationship Id="rId2" Type="http://schemas.openxmlformats.org/officeDocument/2006/relationships/image" Target="../media/image19.png"/><Relationship Id="rId3" Type="http://schemas.openxmlformats.org/officeDocument/2006/relationships/hyperlink" Target="http://www.ket.org/trip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Encyclomedia-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143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MPj03167790000[1]"/>
          <p:cNvPicPr/>
          <p:nvPr/>
        </p:nvPicPr>
        <p:blipFill>
          <a:blip r:embed="rId2"/>
          <a:stretch/>
        </p:blipFill>
        <p:spPr>
          <a:xfrm>
            <a:off x="228600" y="19051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"/>
          <p:cNvSpPr/>
          <p:nvPr/>
        </p:nvSpPr>
        <p:spPr>
          <a:xfrm>
            <a:off x="304920" y="5257800"/>
            <a:ext cx="85341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vironmental Education Resources at Your Fingertips Through KET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-228600" y="-1676520"/>
            <a:ext cx="8610480" cy="6477120"/>
          </a:xfrm>
          <a:custGeom>
            <a:avLst/>
            <a:gdLst>
              <a:gd name="textAreaLeft" fmla="*/ 419760 w 8610480"/>
              <a:gd name="textAreaRight" fmla="*/ 8190720 w 861048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28714" h="21600">
                <a:moveTo>
                  <a:pt x="0" y="0"/>
                </a:moveTo>
                <a:lnTo>
                  <a:pt x="28714" y="0"/>
                </a:lnTo>
                <a:lnTo>
                  <a:pt x="28714" y="21600"/>
                </a:lnTo>
                <a:lnTo>
                  <a:pt x="0" y="21600"/>
                </a:lnTo>
                <a:close/>
              </a:path>
              <a:path fill="lightenLess" w="28714" h="21600">
                <a:moveTo>
                  <a:pt x="0" y="0"/>
                </a:moveTo>
                <a:lnTo>
                  <a:pt x="28714" y="0"/>
                </a:lnTo>
                <a:lnTo>
                  <a:pt x="27314" y="1400"/>
                </a:lnTo>
                <a:lnTo>
                  <a:pt x="1400" y="1400"/>
                </a:lnTo>
                <a:close/>
              </a:path>
              <a:path fill="darken" w="28714" h="21600">
                <a:moveTo>
                  <a:pt x="28714" y="0"/>
                </a:moveTo>
                <a:lnTo>
                  <a:pt x="28714" y="21600"/>
                </a:lnTo>
                <a:lnTo>
                  <a:pt x="27314" y="20200"/>
                </a:lnTo>
                <a:lnTo>
                  <a:pt x="27314" y="1400"/>
                </a:lnTo>
                <a:close/>
              </a:path>
              <a:path fill="darkenLess" w="28714" h="21600">
                <a:moveTo>
                  <a:pt x="2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4" y="20200"/>
                </a:lnTo>
                <a:close/>
              </a:path>
              <a:path fill="lighten" w="2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2209680"/>
            <a:ext cx="891540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askerville Old Face"/>
              </a:rPr>
              <a:t>Two 15-minute programs – one for grades 3-5 , one for Grades 6-8.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askerville Old Face"/>
              </a:rPr>
              <a:t>The programs contai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Virtual visit to a watershed, showing Kentucky rivers flowing into 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  larger basins and ultimately, the Gulf of Mexico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Specific Kentucky geography including urban and rural settings,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  mountains, rivers and streams, karst, sinkholes, and wetlands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Illustrates the most common forms of nonpoint (nps) sourc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 pollution and what can be done to help eliminat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askerville Old Face"/>
              </a:rPr>
              <a:t>    some of its forms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8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04920" y="76320"/>
            <a:ext cx="8610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828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’s  Flexible Multi-media Instructional Resourc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28195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multi-media learning objects that can be integrated in myriad way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address 2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entury Learning styles of  today’s “Digital Nativ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opportunities to addres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gital Citizenship relate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239240" cy="1501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MCj04316420000[1]"/>
          <p:cNvPicPr/>
          <p:nvPr/>
        </p:nvPicPr>
        <p:blipFill>
          <a:blip r:embed="rId2"/>
          <a:stretch/>
        </p:blipFill>
        <p:spPr>
          <a:xfrm>
            <a:off x="7010280" y="43434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Encyclomedia-1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1501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228600" y="2743200"/>
            <a:ext cx="8839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5000 videos- 50,000 video segment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(estimated by Jan 2009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155 of KET’s original program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20,000 digital imag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0 songs, 3000 sound effect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40 historic speeche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marL="533520" indent="-533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Discovery Atlas Interactive Map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1828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eatures of the servi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228600" y="2590920"/>
            <a:ext cx="8381880" cy="75960"/>
          </a:xfrm>
          <a:prstGeom prst="rect">
            <a:avLst/>
          </a:prstGeom>
          <a:solidFill>
            <a:srgbClr val="ffdd1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New Features Coming in 2008-09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anded content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r resolutio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granular search tax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p-level standards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d site administration and user-friendly reporting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Encyclomedia-1"/>
          <p:cNvPicPr/>
          <p:nvPr/>
        </p:nvPicPr>
        <p:blipFill>
          <a:blip r:embed="rId1"/>
          <a:stretch/>
        </p:blipFill>
        <p:spPr>
          <a:xfrm>
            <a:off x="762120" y="76320"/>
            <a:ext cx="7467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KET EncycloMedia Integration Sit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838080" y="85716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issi Baker’s sites: www.missibket.blogspot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838080" y="200664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ww.missibket.wikispaces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6" name="Action Button: Custom 9">
            <a:hlinkClick r:id="rId1"/>
          </p:cNvPr>
          <p:cNvSpPr/>
          <p:nvPr/>
        </p:nvSpPr>
        <p:spPr>
          <a:xfrm>
            <a:off x="762120" y="1981080"/>
            <a:ext cx="5638680" cy="685800"/>
          </a:xfrm>
          <a:custGeom>
            <a:avLst/>
            <a:gdLst>
              <a:gd name="textAreaLeft" fmla="*/ 44280 w 5638680"/>
              <a:gd name="textAreaRight" fmla="*/ 5594400 w 5638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7514" h="21600">
                <a:moveTo>
                  <a:pt x="0" y="0"/>
                </a:moveTo>
                <a:lnTo>
                  <a:pt x="177514" y="0"/>
                </a:lnTo>
                <a:lnTo>
                  <a:pt x="177514" y="21600"/>
                </a:lnTo>
                <a:lnTo>
                  <a:pt x="0" y="21600"/>
                </a:lnTo>
                <a:close/>
              </a:path>
              <a:path fill="lightenLess" w="177514" h="21600">
                <a:moveTo>
                  <a:pt x="0" y="0"/>
                </a:moveTo>
                <a:lnTo>
                  <a:pt x="177514" y="0"/>
                </a:lnTo>
                <a:lnTo>
                  <a:pt x="176114" y="1400"/>
                </a:lnTo>
                <a:lnTo>
                  <a:pt x="1400" y="1400"/>
                </a:lnTo>
                <a:close/>
              </a:path>
              <a:path fill="darken" w="177514" h="21600">
                <a:moveTo>
                  <a:pt x="177514" y="0"/>
                </a:moveTo>
                <a:lnTo>
                  <a:pt x="177514" y="21600"/>
                </a:lnTo>
                <a:lnTo>
                  <a:pt x="176114" y="20200"/>
                </a:lnTo>
                <a:lnTo>
                  <a:pt x="176114" y="1400"/>
                </a:lnTo>
                <a:close/>
              </a:path>
              <a:path fill="darkenLess" w="177514" h="21600">
                <a:moveTo>
                  <a:pt x="177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114" y="20200"/>
                </a:lnTo>
                <a:close/>
              </a:path>
              <a:path fill="lighten" w="177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7" name="Action Button: Custom 10">
            <a:hlinkClick r:id="rId2"/>
          </p:cNvPr>
          <p:cNvSpPr/>
          <p:nvPr/>
        </p:nvSpPr>
        <p:spPr>
          <a:xfrm>
            <a:off x="1447920" y="27432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8" name="TextBox 12"/>
          <p:cNvSpPr/>
          <p:nvPr/>
        </p:nvSpPr>
        <p:spPr>
          <a:xfrm>
            <a:off x="838080" y="2743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ynthia Warner’s Wikki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http://cwarnerket.wikidot.com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19" name="Action Button: Custom 13">
            <a:hlinkClick r:id="rId3"/>
          </p:cNvPr>
          <p:cNvSpPr/>
          <p:nvPr/>
        </p:nvSpPr>
        <p:spPr>
          <a:xfrm>
            <a:off x="685800" y="2819520"/>
            <a:ext cx="5257800" cy="914400"/>
          </a:xfrm>
          <a:custGeom>
            <a:avLst/>
            <a:gdLst>
              <a:gd name="textAreaLeft" fmla="*/ 59040 w 5257800"/>
              <a:gd name="textAreaRight" fmla="*/ 5198760 w 52578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4160" h="21600">
                <a:moveTo>
                  <a:pt x="0" y="0"/>
                </a:moveTo>
                <a:lnTo>
                  <a:pt x="124160" y="0"/>
                </a:lnTo>
                <a:lnTo>
                  <a:pt x="124160" y="21600"/>
                </a:lnTo>
                <a:lnTo>
                  <a:pt x="0" y="21600"/>
                </a:lnTo>
                <a:close/>
              </a:path>
              <a:path fill="lightenLess" w="124160" h="21600">
                <a:moveTo>
                  <a:pt x="0" y="0"/>
                </a:moveTo>
                <a:lnTo>
                  <a:pt x="124160" y="0"/>
                </a:lnTo>
                <a:lnTo>
                  <a:pt x="122760" y="1400"/>
                </a:lnTo>
                <a:lnTo>
                  <a:pt x="1400" y="1400"/>
                </a:lnTo>
                <a:close/>
              </a:path>
              <a:path fill="darken" w="124160" h="21600">
                <a:moveTo>
                  <a:pt x="124160" y="0"/>
                </a:moveTo>
                <a:lnTo>
                  <a:pt x="124160" y="21600"/>
                </a:lnTo>
                <a:lnTo>
                  <a:pt x="122760" y="20200"/>
                </a:lnTo>
                <a:lnTo>
                  <a:pt x="122760" y="1400"/>
                </a:lnTo>
                <a:close/>
              </a:path>
              <a:path fill="darkenLess" w="124160" h="21600">
                <a:moveTo>
                  <a:pt x="124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760" y="20200"/>
                </a:lnTo>
                <a:close/>
              </a:path>
              <a:path fill="lighten" w="124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20" name="Picture 19" descr="C:\Documents and Settings\lmoore\Local Settings\Temporary Internet Files\Content.IE5\2MW80HCS\MPj04393500000[1].jpg"/>
          <p:cNvPicPr/>
          <p:nvPr/>
        </p:nvPicPr>
        <p:blipFill>
          <a:blip r:embed="rId4"/>
          <a:stretch/>
        </p:blipFill>
        <p:spPr>
          <a:xfrm>
            <a:off x="6781680" y="2362320"/>
            <a:ext cx="2084400" cy="2209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838080" y="412272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My WikiSpaces Address: http://lmooreketresources.wikispaces.com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ts Explore this Exciting Service!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4" name="AutoShape 6">
            <a:hlinkClick r:id="rId2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6019920" y="2743200"/>
            <a:ext cx="457200" cy="7621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209680" y="2449440"/>
            <a:ext cx="388620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for link to sign-in page 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7" name="Action Button: Forward or Next 6"/>
          <p:cNvSpPr/>
          <p:nvPr/>
        </p:nvSpPr>
        <p:spPr>
          <a:xfrm>
            <a:off x="822960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5"/>
          <p:cNvSpPr/>
          <p:nvPr/>
        </p:nvSpPr>
        <p:spPr>
          <a:xfrm>
            <a:off x="304920" y="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w Sign In Pag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29" name="AutoShape 6">
            <a:hlinkClick r:id="rId1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304920" y="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on Discovery Education Streamin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32" name="AutoShape 6">
            <a:hlinkClick r:id="rId1"/>
          </p:cNvPr>
          <p:cNvSpPr/>
          <p:nvPr/>
        </p:nvSpPr>
        <p:spPr>
          <a:xfrm>
            <a:off x="6095880" y="335268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Organization Chart 3"/>
          <p:cNvGrpSpPr/>
          <p:nvPr/>
        </p:nvGrpSpPr>
        <p:grpSpPr>
          <a:xfrm>
            <a:off x="1752480" y="1523880"/>
            <a:ext cx="5562360" cy="2944440"/>
            <a:chOff x="1752480" y="1523880"/>
            <a:chExt cx="5562360" cy="2944440"/>
          </a:xfrm>
        </p:grpSpPr>
        <p:cxnSp>
          <p:nvCxnSpPr>
            <p:cNvPr id="135" name="_s1028"/>
            <p:cNvCxnSpPr>
              <a:stCxn id="136" idx="0"/>
              <a:endCxn id="137" idx="3"/>
            </p:cNvCxnSpPr>
            <p:nvPr/>
          </p:nvCxnSpPr>
          <p:spPr>
            <a:xfrm rot="10800000">
              <a:off x="4533840" y="2260080"/>
              <a:ext cx="39744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29"/>
            <p:cNvCxnSpPr>
              <a:stCxn id="139" idx="0"/>
              <a:endCxn id="137" idx="2"/>
            </p:cNvCxnSpPr>
            <p:nvPr/>
          </p:nvCxnSpPr>
          <p:spPr>
            <a:xfrm flipV="1">
              <a:off x="4137120" y="2260080"/>
              <a:ext cx="397800" cy="73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0"/>
            <p:cNvCxnSpPr>
              <a:stCxn id="141" idx="0"/>
              <a:endCxn id="137" idx="1"/>
            </p:cNvCxnSpPr>
            <p:nvPr/>
          </p:nvCxnSpPr>
          <p:spPr>
            <a:xfrm flipV="1" rot="16200000">
              <a:off x="4494240" y="2300040"/>
              <a:ext cx="1473120" cy="139320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" name="_s1031"/>
            <p:cNvCxnSpPr>
              <a:stCxn id="143" idx="0"/>
              <a:endCxn id="137" idx="0"/>
            </p:cNvCxnSpPr>
            <p:nvPr/>
          </p:nvCxnSpPr>
          <p:spPr>
            <a:xfrm flipH="1" flipV="1" rot="5400000">
              <a:off x="3102480" y="2301120"/>
              <a:ext cx="1473120" cy="1391760"/>
            </a:xfrm>
            <a:prstGeom prst="bentConnector3">
              <a:avLst>
                <a:gd name="adj1" fmla="val 774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7" name="_s1032"/>
            <p:cNvSpPr/>
            <p:nvPr/>
          </p:nvSpPr>
          <p:spPr>
            <a:xfrm>
              <a:off x="3341880" y="1523880"/>
              <a:ext cx="2385360" cy="736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1"/>
                </a:rPr>
                <a:t>PowerPoint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3" name="_s1033"/>
            <p:cNvSpPr/>
            <p:nvPr/>
          </p:nvSpPr>
          <p:spPr>
            <a:xfrm>
              <a:off x="194940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/>
                </a:rPr>
                <a:t>Inspiration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1" name="_s1034"/>
            <p:cNvSpPr/>
            <p:nvPr/>
          </p:nvSpPr>
          <p:spPr>
            <a:xfrm>
              <a:off x="4732920" y="3733200"/>
              <a:ext cx="2386800" cy="7351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Word</a:t>
              </a:r>
              <a:endParaRPr b="0" lang="en-US" sz="21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9" name="_s1035"/>
            <p:cNvSpPr/>
            <p:nvPr/>
          </p:nvSpPr>
          <p:spPr>
            <a:xfrm>
              <a:off x="1752480" y="2629080"/>
              <a:ext cx="238500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Whiteboard, 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(Smartboard e.g.)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36" name="_s1036"/>
            <p:cNvSpPr/>
            <p:nvPr/>
          </p:nvSpPr>
          <p:spPr>
            <a:xfrm>
              <a:off x="4931280" y="2629080"/>
              <a:ext cx="2383560" cy="735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8100000"/>
            </a:gra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ovieMaker/iMovie</a:t>
              </a:r>
              <a:endParaRPr b="0" lang="en-US" sz="19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 flipV="1">
              <a:off x="5866920" y="4466880"/>
              <a:ext cx="75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 KET EncycloMedia Resources with a variety of software and technology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0"/>
          <p:cNvSpPr/>
          <p:nvPr/>
        </p:nvSpPr>
        <p:spPr>
          <a:xfrm>
            <a:off x="1905120" y="4876920"/>
            <a:ext cx="2361960" cy="685800"/>
          </a:xfrm>
          <a:custGeom>
            <a:avLst/>
            <a:gdLst>
              <a:gd name="textAreaLeft" fmla="*/ 44280 w 2361960"/>
              <a:gd name="textAreaRight" fmla="*/ 2317680 w 2361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65" h="21600">
                <a:moveTo>
                  <a:pt x="0" y="0"/>
                </a:moveTo>
                <a:lnTo>
                  <a:pt x="74365" y="0"/>
                </a:lnTo>
                <a:lnTo>
                  <a:pt x="74365" y="21600"/>
                </a:lnTo>
                <a:lnTo>
                  <a:pt x="0" y="21600"/>
                </a:lnTo>
                <a:close/>
              </a:path>
              <a:path fill="lightenLess" w="74365" h="21600">
                <a:moveTo>
                  <a:pt x="0" y="0"/>
                </a:moveTo>
                <a:lnTo>
                  <a:pt x="74365" y="0"/>
                </a:lnTo>
                <a:lnTo>
                  <a:pt x="72965" y="1400"/>
                </a:lnTo>
                <a:lnTo>
                  <a:pt x="1400" y="1400"/>
                </a:lnTo>
                <a:close/>
              </a:path>
              <a:path fill="darken" w="74365" h="21600">
                <a:moveTo>
                  <a:pt x="74365" y="0"/>
                </a:moveTo>
                <a:lnTo>
                  <a:pt x="74365" y="21600"/>
                </a:lnTo>
                <a:lnTo>
                  <a:pt x="72965" y="20200"/>
                </a:lnTo>
                <a:lnTo>
                  <a:pt x="72965" y="1400"/>
                </a:lnTo>
                <a:close/>
              </a:path>
              <a:path fill="darkenLess" w="74365" h="21600">
                <a:moveTo>
                  <a:pt x="74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65" y="20200"/>
                </a:lnTo>
                <a:close/>
              </a:path>
              <a:path fill="lighten" w="74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2057400" y="5181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otoStor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8" name="Action Button: Custom 11">
            <a:hlinkClick r:id="rId4" action="ppaction://hlinksldjump"/>
          </p:cNvPr>
          <p:cNvSpPr/>
          <p:nvPr/>
        </p:nvSpPr>
        <p:spPr>
          <a:xfrm>
            <a:off x="3352680" y="1600200"/>
            <a:ext cx="2286000" cy="60948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80981" h="21600">
                <a:moveTo>
                  <a:pt x="0" y="0"/>
                </a:moveTo>
                <a:lnTo>
                  <a:pt x="80981" y="0"/>
                </a:lnTo>
                <a:lnTo>
                  <a:pt x="80981" y="21600"/>
                </a:lnTo>
                <a:lnTo>
                  <a:pt x="0" y="21600"/>
                </a:lnTo>
                <a:close/>
              </a:path>
              <a:path fill="lightenLess" w="80981" h="21600">
                <a:moveTo>
                  <a:pt x="0" y="0"/>
                </a:moveTo>
                <a:lnTo>
                  <a:pt x="80981" y="0"/>
                </a:lnTo>
                <a:lnTo>
                  <a:pt x="79581" y="1400"/>
                </a:lnTo>
                <a:lnTo>
                  <a:pt x="1400" y="1400"/>
                </a:lnTo>
                <a:close/>
              </a:path>
              <a:path fill="darken" w="80981" h="21600">
                <a:moveTo>
                  <a:pt x="80981" y="0"/>
                </a:moveTo>
                <a:lnTo>
                  <a:pt x="80981" y="21600"/>
                </a:lnTo>
                <a:lnTo>
                  <a:pt x="79581" y="20200"/>
                </a:lnTo>
                <a:lnTo>
                  <a:pt x="79581" y="1400"/>
                </a:lnTo>
                <a:close/>
              </a:path>
              <a:path fill="darkenLess" w="80981" h="21600">
                <a:moveTo>
                  <a:pt x="80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81" y="20200"/>
                </a:lnTo>
                <a:close/>
              </a:path>
              <a:path fill="lighten" w="80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49" name="Action Button: Custom 12">
            <a:hlinkClick r:id="rId5" action="ppaction://hlinksldjump"/>
          </p:cNvPr>
          <p:cNvSpPr/>
          <p:nvPr/>
        </p:nvSpPr>
        <p:spPr>
          <a:xfrm>
            <a:off x="1752480" y="266688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0" name="Action Button: Custom 13">
            <a:hlinkClick r:id="rId6" action="ppaction://hlinksldjump"/>
          </p:cNvPr>
          <p:cNvSpPr/>
          <p:nvPr/>
        </p:nvSpPr>
        <p:spPr>
          <a:xfrm>
            <a:off x="4952880" y="2590920"/>
            <a:ext cx="2286000" cy="761760"/>
          </a:xfrm>
          <a:custGeom>
            <a:avLst/>
            <a:gdLst>
              <a:gd name="textAreaLeft" fmla="*/ 49320 w 2286000"/>
              <a:gd name="textAreaRight" fmla="*/ 2236680 w 2286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4800" h="21600">
                <a:moveTo>
                  <a:pt x="0" y="0"/>
                </a:moveTo>
                <a:lnTo>
                  <a:pt x="64800" y="0"/>
                </a:lnTo>
                <a:lnTo>
                  <a:pt x="64800" y="21600"/>
                </a:lnTo>
                <a:lnTo>
                  <a:pt x="0" y="21600"/>
                </a:lnTo>
                <a:close/>
              </a:path>
              <a:path fill="lightenLess" w="64800" h="21600">
                <a:moveTo>
                  <a:pt x="0" y="0"/>
                </a:moveTo>
                <a:lnTo>
                  <a:pt x="64800" y="0"/>
                </a:lnTo>
                <a:lnTo>
                  <a:pt x="63400" y="1400"/>
                </a:lnTo>
                <a:lnTo>
                  <a:pt x="1400" y="1400"/>
                </a:lnTo>
                <a:close/>
              </a:path>
              <a:path fill="darken" w="64800" h="21600">
                <a:moveTo>
                  <a:pt x="64800" y="0"/>
                </a:moveTo>
                <a:lnTo>
                  <a:pt x="64800" y="21600"/>
                </a:lnTo>
                <a:lnTo>
                  <a:pt x="63400" y="20200"/>
                </a:lnTo>
                <a:lnTo>
                  <a:pt x="63400" y="1400"/>
                </a:lnTo>
                <a:close/>
              </a:path>
              <a:path fill="darkenLess" w="64800" h="21600">
                <a:moveTo>
                  <a:pt x="64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00" y="20200"/>
                </a:lnTo>
                <a:close/>
              </a:path>
              <a:path fill="lighten" w="64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1" name="Action Button: Custom 14">
            <a:hlinkClick r:id="rId7" action="ppaction://hlinksldjump"/>
          </p:cNvPr>
          <p:cNvSpPr/>
          <p:nvPr/>
        </p:nvSpPr>
        <p:spPr>
          <a:xfrm>
            <a:off x="1981080" y="3809880"/>
            <a:ext cx="2286000" cy="685800"/>
          </a:xfrm>
          <a:custGeom>
            <a:avLst/>
            <a:gdLst>
              <a:gd name="textAreaLeft" fmla="*/ 44280 w 2286000"/>
              <a:gd name="textAreaRight" fmla="*/ 2241720 w 2286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4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4" y="20200"/>
                </a:lnTo>
                <a:lnTo>
                  <a:pt x="70574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4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2" name="Action Button: Custom 15">
            <a:hlinkClick r:id="rId8" action="ppaction://hlinksldjump"/>
          </p:cNvPr>
          <p:cNvSpPr/>
          <p:nvPr/>
        </p:nvSpPr>
        <p:spPr>
          <a:xfrm>
            <a:off x="4724280" y="37339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3" name="Action Button: Custom 17">
            <a:hlinkClick r:id="rId9" action="ppaction://hlinksldjump"/>
          </p:cNvPr>
          <p:cNvSpPr/>
          <p:nvPr/>
        </p:nvSpPr>
        <p:spPr>
          <a:xfrm>
            <a:off x="1981080" y="49528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472428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5" name="TextBox 19"/>
          <p:cNvSpPr/>
          <p:nvPr/>
        </p:nvSpPr>
        <p:spPr>
          <a:xfrm>
            <a:off x="4952880" y="5181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oiceThread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6" name="Action Button: Custom 20">
            <a:hlinkClick r:id="rId10" action="ppaction://hlinksldjump"/>
          </p:cNvPr>
          <p:cNvSpPr/>
          <p:nvPr/>
        </p:nvSpPr>
        <p:spPr>
          <a:xfrm>
            <a:off x="4800600" y="4876920"/>
            <a:ext cx="2362320" cy="685800"/>
          </a:xfrm>
          <a:custGeom>
            <a:avLst/>
            <a:gdLst>
              <a:gd name="textAreaLeft" fmla="*/ 44280 w 2362320"/>
              <a:gd name="textAreaRight" fmla="*/ 2318040 w 2362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4376" h="21600">
                <a:moveTo>
                  <a:pt x="0" y="0"/>
                </a:moveTo>
                <a:lnTo>
                  <a:pt x="74376" y="0"/>
                </a:lnTo>
                <a:lnTo>
                  <a:pt x="74376" y="21600"/>
                </a:lnTo>
                <a:lnTo>
                  <a:pt x="0" y="21600"/>
                </a:lnTo>
                <a:close/>
              </a:path>
              <a:path fill="lightenLess" w="74376" h="21600">
                <a:moveTo>
                  <a:pt x="0" y="0"/>
                </a:moveTo>
                <a:lnTo>
                  <a:pt x="74376" y="0"/>
                </a:lnTo>
                <a:lnTo>
                  <a:pt x="72976" y="1400"/>
                </a:lnTo>
                <a:lnTo>
                  <a:pt x="1400" y="1400"/>
                </a:lnTo>
                <a:close/>
              </a:path>
              <a:path fill="darken" w="74376" h="21600">
                <a:moveTo>
                  <a:pt x="74376" y="0"/>
                </a:moveTo>
                <a:lnTo>
                  <a:pt x="74376" y="21600"/>
                </a:lnTo>
                <a:lnTo>
                  <a:pt x="72976" y="20200"/>
                </a:lnTo>
                <a:lnTo>
                  <a:pt x="72976" y="1400"/>
                </a:lnTo>
                <a:close/>
              </a:path>
              <a:path fill="darkenLess" w="74376" h="21600">
                <a:moveTo>
                  <a:pt x="74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76" y="20200"/>
                </a:lnTo>
                <a:close/>
              </a:path>
              <a:path fill="lighten" w="74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7" name="Straight Connector 22"/>
          <p:cNvSpPr/>
          <p:nvPr/>
        </p:nvSpPr>
        <p:spPr>
          <a:xfrm>
            <a:off x="3124080" y="4724280"/>
            <a:ext cx="2819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8" name="Straight Connector 29"/>
          <p:cNvSpPr/>
          <p:nvPr/>
        </p:nvSpPr>
        <p:spPr>
          <a:xfrm flipV="1">
            <a:off x="4572000" y="3583080"/>
            <a:ext cx="0" cy="114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59" name="Straight Connector 32"/>
          <p:cNvSpPr/>
          <p:nvPr/>
        </p:nvSpPr>
        <p:spPr>
          <a:xfrm flipH="1">
            <a:off x="3122280" y="4724280"/>
            <a:ext cx="32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0" name="Straight Connector 33"/>
          <p:cNvSpPr/>
          <p:nvPr/>
        </p:nvSpPr>
        <p:spPr>
          <a:xfrm flipH="1">
            <a:off x="5943600" y="4724280"/>
            <a:ext cx="1440" cy="152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1" name="Rectangle 23">
            <a:hlinkClick r:id="rId11"/>
          </p:cNvPr>
          <p:cNvSpPr/>
          <p:nvPr/>
        </p:nvSpPr>
        <p:spPr>
          <a:xfrm>
            <a:off x="1905120" y="5791320"/>
            <a:ext cx="23619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2" name="Straight Connector 27"/>
          <p:cNvSpPr/>
          <p:nvPr/>
        </p:nvSpPr>
        <p:spPr>
          <a:xfrm flipH="1">
            <a:off x="4572000" y="3659040"/>
            <a:ext cx="1440" cy="243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3" name="Rectangle 24"/>
          <p:cNvSpPr/>
          <p:nvPr/>
        </p:nvSpPr>
        <p:spPr>
          <a:xfrm>
            <a:off x="4800600" y="5791320"/>
            <a:ext cx="23623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4" name="Straight Connector 28"/>
          <p:cNvSpPr/>
          <p:nvPr/>
        </p:nvSpPr>
        <p:spPr>
          <a:xfrm>
            <a:off x="4267080" y="6134040"/>
            <a:ext cx="533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5" name="TextBox 30"/>
          <p:cNvSpPr/>
          <p:nvPr/>
        </p:nvSpPr>
        <p:spPr>
          <a:xfrm>
            <a:off x="4952880" y="57913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signment and Quiz Builder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6" name="Rectangle 41"/>
          <p:cNvSpPr/>
          <p:nvPr/>
        </p:nvSpPr>
        <p:spPr>
          <a:xfrm>
            <a:off x="1981080" y="5867280"/>
            <a:ext cx="2210040" cy="5335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7" name="Rectangle 42"/>
          <p:cNvSpPr/>
          <p:nvPr/>
        </p:nvSpPr>
        <p:spPr>
          <a:xfrm>
            <a:off x="4876920" y="5867280"/>
            <a:ext cx="2133360" cy="609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8" name="TextBox 26"/>
          <p:cNvSpPr/>
          <p:nvPr/>
        </p:nvSpPr>
        <p:spPr>
          <a:xfrm>
            <a:off x="1981080" y="5867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oogleEarth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69" name="Action Button: Custom 31">
            <a:hlinkClick r:id="rId12" action="ppaction://hlinksldjump"/>
          </p:cNvPr>
          <p:cNvSpPr/>
          <p:nvPr/>
        </p:nvSpPr>
        <p:spPr>
          <a:xfrm>
            <a:off x="1981080" y="5867280"/>
            <a:ext cx="2286000" cy="609840"/>
          </a:xfrm>
          <a:custGeom>
            <a:avLst/>
            <a:gdLst>
              <a:gd name="textAreaLeft" fmla="*/ 39240 w 2286000"/>
              <a:gd name="textAreaRight" fmla="*/ 2246760 w 2286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0933" h="21600">
                <a:moveTo>
                  <a:pt x="0" y="0"/>
                </a:moveTo>
                <a:lnTo>
                  <a:pt x="80933" y="0"/>
                </a:lnTo>
                <a:lnTo>
                  <a:pt x="80933" y="21600"/>
                </a:lnTo>
                <a:lnTo>
                  <a:pt x="0" y="21600"/>
                </a:lnTo>
                <a:close/>
              </a:path>
              <a:path fill="lightenLess" w="80933" h="21600">
                <a:moveTo>
                  <a:pt x="0" y="0"/>
                </a:moveTo>
                <a:lnTo>
                  <a:pt x="80933" y="0"/>
                </a:lnTo>
                <a:lnTo>
                  <a:pt x="79533" y="1400"/>
                </a:lnTo>
                <a:lnTo>
                  <a:pt x="1400" y="1400"/>
                </a:lnTo>
                <a:close/>
              </a:path>
              <a:path fill="darken" w="80933" h="21600">
                <a:moveTo>
                  <a:pt x="80933" y="0"/>
                </a:moveTo>
                <a:lnTo>
                  <a:pt x="80933" y="21600"/>
                </a:lnTo>
                <a:lnTo>
                  <a:pt x="79533" y="20200"/>
                </a:lnTo>
                <a:lnTo>
                  <a:pt x="79533" y="1400"/>
                </a:lnTo>
                <a:close/>
              </a:path>
              <a:path fill="darkenLess" w="80933" h="21600">
                <a:moveTo>
                  <a:pt x="80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533" y="20200"/>
                </a:lnTo>
                <a:close/>
              </a:path>
              <a:path fill="lighten" w="80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corporating KEM Resources into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2" name="imgMain" descr="D9C38901-F45C-DCBE-F7801D547AAAF4AC"/>
          <p:cNvPicPr/>
          <p:nvPr/>
        </p:nvPicPr>
        <p:blipFill>
          <a:blip r:embed="rId2"/>
          <a:stretch/>
        </p:blipFill>
        <p:spPr>
          <a:xfrm>
            <a:off x="228600" y="1447920"/>
            <a:ext cx="4084560" cy="2743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533520" y="42926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Butterfly Quiz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4" name="Picture 7" descr="pengins.jpg"/>
          <p:cNvPicPr/>
          <p:nvPr/>
        </p:nvPicPr>
        <p:blipFill>
          <a:blip r:embed="rId3"/>
          <a:stretch/>
        </p:blipFill>
        <p:spPr>
          <a:xfrm>
            <a:off x="4510080" y="1447920"/>
            <a:ext cx="4100400" cy="27684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8"/>
          <p:cNvSpPr/>
          <p:nvPr/>
        </p:nvSpPr>
        <p:spPr>
          <a:xfrm>
            <a:off x="4648320" y="434340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Baskerville Old Face"/>
              </a:rPr>
              <a:t>Learning about Penguins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Your Presenter today 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066680"/>
            <a:ext cx="7391160" cy="78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rry Moore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Education Consultant,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orth Central Region 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gional Office # (502) 875-9002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oice Mail: (800) 432-0951, ext. 7264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-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moore@ket.org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54" name="Picture 4" descr="MCPE01923_0000[1]"/>
          <p:cNvPicPr/>
          <p:nvPr/>
        </p:nvPicPr>
        <p:blipFill>
          <a:blip r:embed="rId2"/>
          <a:stretch/>
        </p:blipFill>
        <p:spPr>
          <a:xfrm>
            <a:off x="6867360" y="4419720"/>
            <a:ext cx="2276640" cy="14475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304920" y="51814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 WikiSpaces Address: http://lmooreketresources.wikispaces.com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56" name="Action Button: Custom 5">
            <a:hlinkClick r:id="rId3"/>
          </p:cNvPr>
          <p:cNvSpPr/>
          <p:nvPr/>
        </p:nvSpPr>
        <p:spPr>
          <a:xfrm>
            <a:off x="304920" y="5029200"/>
            <a:ext cx="6400800" cy="1066680"/>
          </a:xfrm>
          <a:custGeom>
            <a:avLst/>
            <a:gdLst>
              <a:gd name="textAreaLeft" fmla="*/ 69120 w 6400800"/>
              <a:gd name="textAreaRight" fmla="*/ 6331680 w 6400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129578" h="21600">
                <a:moveTo>
                  <a:pt x="0" y="0"/>
                </a:moveTo>
                <a:lnTo>
                  <a:pt x="129578" y="0"/>
                </a:lnTo>
                <a:lnTo>
                  <a:pt x="129578" y="21600"/>
                </a:lnTo>
                <a:lnTo>
                  <a:pt x="0" y="21600"/>
                </a:lnTo>
                <a:close/>
              </a:path>
              <a:path fill="lightenLess" w="129578" h="21600">
                <a:moveTo>
                  <a:pt x="0" y="0"/>
                </a:moveTo>
                <a:lnTo>
                  <a:pt x="129578" y="0"/>
                </a:lnTo>
                <a:lnTo>
                  <a:pt x="128178" y="1400"/>
                </a:lnTo>
                <a:lnTo>
                  <a:pt x="1400" y="1400"/>
                </a:lnTo>
                <a:close/>
              </a:path>
              <a:path fill="darken" w="129578" h="21600">
                <a:moveTo>
                  <a:pt x="129578" y="0"/>
                </a:moveTo>
                <a:lnTo>
                  <a:pt x="129578" y="21600"/>
                </a:lnTo>
                <a:lnTo>
                  <a:pt x="128178" y="20200"/>
                </a:lnTo>
                <a:lnTo>
                  <a:pt x="128178" y="1400"/>
                </a:lnTo>
                <a:close/>
              </a:path>
              <a:path fill="darkenLess" w="129578" h="21600">
                <a:moveTo>
                  <a:pt x="129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78" y="20200"/>
                </a:lnTo>
                <a:close/>
              </a:path>
              <a:path fill="lighten" w="129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6"/>
          <p:cNvSpPr/>
          <p:nvPr/>
        </p:nvSpPr>
        <p:spPr>
          <a:xfrm>
            <a:off x="1981080" y="586728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askerville Old Face"/>
              </a:rPr>
              <a:t>http://www.ket.org/trips/forest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7" name="Action Button: Custom 8">
            <a:hlinkClick r:id="rId1"/>
          </p:cNvPr>
          <p:cNvSpPr/>
          <p:nvPr/>
        </p:nvSpPr>
        <p:spPr>
          <a:xfrm>
            <a:off x="1828800" y="5791320"/>
            <a:ext cx="5410080" cy="685800"/>
          </a:xfrm>
          <a:custGeom>
            <a:avLst/>
            <a:gdLst>
              <a:gd name="textAreaLeft" fmla="*/ 44280 w 5410080"/>
              <a:gd name="textAreaRight" fmla="*/ 5365800 w 5410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0318" h="21600">
                <a:moveTo>
                  <a:pt x="0" y="0"/>
                </a:moveTo>
                <a:lnTo>
                  <a:pt x="170318" y="0"/>
                </a:lnTo>
                <a:lnTo>
                  <a:pt x="170318" y="21600"/>
                </a:lnTo>
                <a:lnTo>
                  <a:pt x="0" y="21600"/>
                </a:lnTo>
                <a:close/>
              </a:path>
              <a:path fill="lightenLess" w="170318" h="21600">
                <a:moveTo>
                  <a:pt x="0" y="0"/>
                </a:moveTo>
                <a:lnTo>
                  <a:pt x="170318" y="0"/>
                </a:lnTo>
                <a:lnTo>
                  <a:pt x="168918" y="1400"/>
                </a:lnTo>
                <a:lnTo>
                  <a:pt x="1400" y="1400"/>
                </a:lnTo>
                <a:close/>
              </a:path>
              <a:path fill="darken" w="170318" h="21600">
                <a:moveTo>
                  <a:pt x="170318" y="0"/>
                </a:moveTo>
                <a:lnTo>
                  <a:pt x="170318" y="21600"/>
                </a:lnTo>
                <a:lnTo>
                  <a:pt x="168918" y="20200"/>
                </a:lnTo>
                <a:lnTo>
                  <a:pt x="168918" y="1400"/>
                </a:lnTo>
                <a:close/>
              </a:path>
              <a:path fill="darkenLess" w="170318" h="21600">
                <a:moveTo>
                  <a:pt x="170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918" y="20200"/>
                </a:lnTo>
                <a:close/>
              </a:path>
              <a:path fill="lighten" w="170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0" y="31428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xample Of HyperLinking In Environmental Scien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79" name="Picture 9" descr="cows.jpg"/>
          <p:cNvPicPr/>
          <p:nvPr/>
        </p:nvPicPr>
        <p:blipFill>
          <a:blip r:embed="rId2"/>
          <a:stretch/>
        </p:blipFill>
        <p:spPr>
          <a:xfrm>
            <a:off x="304920" y="1295280"/>
            <a:ext cx="3809880" cy="30038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0"/>
          <p:cNvSpPr/>
          <p:nvPr/>
        </p:nvSpPr>
        <p:spPr>
          <a:xfrm>
            <a:off x="304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thBusters Young Scientist’s Challenge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1" name="Picture 13" descr="niche.jpg"/>
          <p:cNvPicPr/>
          <p:nvPr/>
        </p:nvPicPr>
        <p:blipFill>
          <a:blip r:embed="rId3"/>
          <a:stretch/>
        </p:blipFill>
        <p:spPr>
          <a:xfrm>
            <a:off x="4800600" y="12952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4663080" y="449568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ches: How Animals Fit Into Ecology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22860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nstructions for Hyperlinking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304920" y="1066680"/>
            <a:ext cx="784836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wnload a video segment to a designated folder that also contains your Powerpoint, Inspiration, etc.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must have an object to serve as your “trigger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button to click to link to the desired clip. Th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can be a text box, image,clip art, 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button. Right click on this object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drop-down menu, select “hyperlink”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“Insert Hyperlink” window, locate the clip or file to which you want to link. You may have to browse some to find it. Double click on the file.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“OK” when finish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5" name="Picture 15" descr="block_exterior.jpg"/>
          <p:cNvPicPr/>
          <p:nvPr/>
        </p:nvPicPr>
        <p:blipFill>
          <a:blip r:embed="rId1"/>
          <a:stretch/>
        </p:blipFill>
        <p:spPr>
          <a:xfrm>
            <a:off x="6781680" y="2209680"/>
            <a:ext cx="2057400" cy="13716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">
            <a:hlinkClick r:id="rId2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Imbedded Video Clip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23880" y="58672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 Balanc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189" name="FoodChains.asf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36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Instructions for Embedding In PowerPoi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04920" y="838080"/>
            <a:ext cx="8610480" cy="67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 a video segment to a folder that also contains your PowerPoint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the slide where you want to embed the clip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toolbar go to Insert and select “Movies and Sounds”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“Movie from File” and when the “Insert Movie” window opens, browse to find the desired clip.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Double click on the clip and it will place a “movie screen” on your slide and ask “How do you want this Movie to start?” with options “Automatically” or “When Clicked”. Choose the desired option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Using the “handles” on the embedded movie screen you can move and resize your cli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2" name="AutoShape 5">
            <a:hlinkClick r:id="rId1" action="ppaction://hlinksldjump"/>
          </p:cNvPr>
          <p:cNvSpPr/>
          <p:nvPr/>
        </p:nvSpPr>
        <p:spPr>
          <a:xfrm>
            <a:off x="8381880" y="56386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EncycloMedia With Inspiratio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00" name="Picture 12" descr=""/>
          <p:cNvPicPr/>
          <p:nvPr/>
        </p:nvPicPr>
        <p:blipFill>
          <a:blip r:embed="rId1"/>
          <a:stretch/>
        </p:blipFill>
        <p:spPr>
          <a:xfrm>
            <a:off x="0" y="961920"/>
            <a:ext cx="9163080" cy="58960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3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2" name="AutoShape 14">
            <a:hlinkClick r:id="rId2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3" name="AutoShape 15">
            <a:hlinkClick r:id="rId3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4" name="AutoShape 16">
            <a:hlinkClick r:id="rId4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5" name="AutoShape 17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09" name="AutoShape 21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0" name="AutoShape 5">
            <a:hlinkClick r:id="rId5" action="ppaction://hlinksldjump"/>
          </p:cNvPr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EncycloMedia With PhotoStor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380880" y="42670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4038480" y="48769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3733920" y="30481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2209680" y="58672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3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3" y="20200"/>
                </a:lnTo>
                <a:lnTo>
                  <a:pt x="33683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3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7086600" y="44956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7848720" y="23623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533520" y="41148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19" name="AutoShape 11">
            <a:hlinkClick r:id="rId1"/>
          </p:cNvPr>
          <p:cNvSpPr/>
          <p:nvPr/>
        </p:nvSpPr>
        <p:spPr>
          <a:xfrm>
            <a:off x="533520" y="4191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0" name="AutoShape 12">
            <a:hlinkClick r:id="rId2"/>
          </p:cNvPr>
          <p:cNvSpPr/>
          <p:nvPr/>
        </p:nvSpPr>
        <p:spPr>
          <a:xfrm>
            <a:off x="609480" y="4038480"/>
            <a:ext cx="1295640" cy="304920"/>
          </a:xfrm>
          <a:custGeom>
            <a:avLst/>
            <a:gdLst>
              <a:gd name="textAreaLeft" fmla="*/ 19440 w 1295640"/>
              <a:gd name="textAreaRight" fmla="*/ 1276200 w 12956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1698" h="21600">
                <a:moveTo>
                  <a:pt x="0" y="0"/>
                </a:moveTo>
                <a:lnTo>
                  <a:pt x="91698" y="0"/>
                </a:lnTo>
                <a:lnTo>
                  <a:pt x="91698" y="21600"/>
                </a:lnTo>
                <a:lnTo>
                  <a:pt x="0" y="21600"/>
                </a:lnTo>
                <a:close/>
              </a:path>
              <a:path fill="lightenLess" w="91698" h="21600">
                <a:moveTo>
                  <a:pt x="0" y="0"/>
                </a:moveTo>
                <a:lnTo>
                  <a:pt x="91698" y="0"/>
                </a:lnTo>
                <a:lnTo>
                  <a:pt x="90298" y="1400"/>
                </a:lnTo>
                <a:lnTo>
                  <a:pt x="1400" y="1400"/>
                </a:lnTo>
                <a:close/>
              </a:path>
              <a:path fill="darken" w="91698" h="21600">
                <a:moveTo>
                  <a:pt x="91698" y="0"/>
                </a:moveTo>
                <a:lnTo>
                  <a:pt x="91698" y="21600"/>
                </a:lnTo>
                <a:lnTo>
                  <a:pt x="90298" y="20200"/>
                </a:lnTo>
                <a:lnTo>
                  <a:pt x="90298" y="1400"/>
                </a:lnTo>
                <a:close/>
              </a:path>
              <a:path fill="darkenLess" w="91698" h="21600">
                <a:moveTo>
                  <a:pt x="91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298" y="20200"/>
                </a:lnTo>
                <a:close/>
              </a:path>
              <a:path fill="lighten" w="91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1" name="AutoShape 13">
            <a:hlinkClick r:id="rId3"/>
          </p:cNvPr>
          <p:cNvSpPr/>
          <p:nvPr/>
        </p:nvSpPr>
        <p:spPr>
          <a:xfrm>
            <a:off x="533520" y="4191120"/>
            <a:ext cx="1295280" cy="304560"/>
          </a:xfrm>
          <a:custGeom>
            <a:avLst/>
            <a:gdLst>
              <a:gd name="textAreaLeft" fmla="*/ 19440 w 1295280"/>
              <a:gd name="textAreaRight" fmla="*/ 1275840 w 1295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91781" h="21600">
                <a:moveTo>
                  <a:pt x="0" y="0"/>
                </a:moveTo>
                <a:lnTo>
                  <a:pt x="91781" y="0"/>
                </a:lnTo>
                <a:lnTo>
                  <a:pt x="91781" y="21600"/>
                </a:lnTo>
                <a:lnTo>
                  <a:pt x="0" y="21600"/>
                </a:lnTo>
                <a:close/>
              </a:path>
              <a:path fill="lightenLess" w="91781" h="21600">
                <a:moveTo>
                  <a:pt x="0" y="0"/>
                </a:moveTo>
                <a:lnTo>
                  <a:pt x="91781" y="0"/>
                </a:lnTo>
                <a:lnTo>
                  <a:pt x="90381" y="1400"/>
                </a:lnTo>
                <a:lnTo>
                  <a:pt x="1400" y="1400"/>
                </a:lnTo>
                <a:close/>
              </a:path>
              <a:path fill="darken" w="91781" h="21600">
                <a:moveTo>
                  <a:pt x="91781" y="0"/>
                </a:moveTo>
                <a:lnTo>
                  <a:pt x="91781" y="21600"/>
                </a:lnTo>
                <a:lnTo>
                  <a:pt x="90381" y="20200"/>
                </a:lnTo>
                <a:lnTo>
                  <a:pt x="90381" y="1400"/>
                </a:lnTo>
                <a:close/>
              </a:path>
              <a:path fill="darkenLess" w="91781" h="21600">
                <a:moveTo>
                  <a:pt x="9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381" y="20200"/>
                </a:lnTo>
                <a:close/>
              </a:path>
              <a:path fill="lighten" w="9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3581280" y="297180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6477120" y="42670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4" name="AutoShape 16"/>
          <p:cNvSpPr/>
          <p:nvPr/>
        </p:nvSpPr>
        <p:spPr>
          <a:xfrm>
            <a:off x="3962520" y="449568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2209680" y="4724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6" name="AutoShape 18"/>
          <p:cNvSpPr/>
          <p:nvPr/>
        </p:nvSpPr>
        <p:spPr>
          <a:xfrm>
            <a:off x="40384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2209680" y="2514600"/>
            <a:ext cx="6400800" cy="838080"/>
          </a:xfrm>
          <a:custGeom>
            <a:avLst/>
            <a:gdLst>
              <a:gd name="textAreaLeft" fmla="*/ 54000 w 6400800"/>
              <a:gd name="textAreaRight" fmla="*/ 6346800 w 6400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64908" h="21600">
                <a:moveTo>
                  <a:pt x="0" y="0"/>
                </a:moveTo>
                <a:lnTo>
                  <a:pt x="164908" y="0"/>
                </a:lnTo>
                <a:lnTo>
                  <a:pt x="164908" y="21600"/>
                </a:lnTo>
                <a:lnTo>
                  <a:pt x="0" y="21600"/>
                </a:lnTo>
                <a:close/>
              </a:path>
              <a:path fill="lightenLess" w="164908" h="21600">
                <a:moveTo>
                  <a:pt x="0" y="0"/>
                </a:moveTo>
                <a:lnTo>
                  <a:pt x="164908" y="0"/>
                </a:lnTo>
                <a:lnTo>
                  <a:pt x="163508" y="1400"/>
                </a:lnTo>
                <a:lnTo>
                  <a:pt x="1400" y="1400"/>
                </a:lnTo>
                <a:close/>
              </a:path>
              <a:path fill="darken" w="164908" h="21600">
                <a:moveTo>
                  <a:pt x="164908" y="0"/>
                </a:moveTo>
                <a:lnTo>
                  <a:pt x="164908" y="21600"/>
                </a:lnTo>
                <a:lnTo>
                  <a:pt x="163508" y="20200"/>
                </a:lnTo>
                <a:lnTo>
                  <a:pt x="163508" y="1400"/>
                </a:lnTo>
                <a:close/>
              </a:path>
              <a:path fill="darkenLess" w="164908" h="21600">
                <a:moveTo>
                  <a:pt x="1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508" y="20200"/>
                </a:lnTo>
                <a:close/>
              </a:path>
              <a:path fill="lighten" w="1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28" name="TextBox 20"/>
          <p:cNvSpPr/>
          <p:nvPr/>
        </p:nvSpPr>
        <p:spPr>
          <a:xfrm>
            <a:off x="3048120" y="6172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Rock Cycle</a:t>
            </a:r>
            <a:endParaRPr b="0" lang="en-US" sz="36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29" name="LM sedimentary rock.wmv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7086600" cy="5314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5">
            <a:hlinkClick r:id="rId5" action="ppaction://hlinksldjump"/>
          </p:cNvPr>
          <p:cNvSpPr/>
          <p:nvPr/>
        </p:nvSpPr>
        <p:spPr>
          <a:xfrm>
            <a:off x="8305920" y="55627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7301" y="12345"/>
                </a:moveTo>
                <a:lnTo>
                  <a:pt x="17806" y="5338"/>
                </a:lnTo>
                <a:lnTo>
                  <a:pt x="17806" y="19351"/>
                </a:lnTo>
                <a:close/>
              </a:path>
              <a:path fill="darken" w="21600" h="24690">
                <a:moveTo>
                  <a:pt x="3794" y="5338"/>
                </a:moveTo>
                <a:lnTo>
                  <a:pt x="5456" y="5338"/>
                </a:lnTo>
                <a:lnTo>
                  <a:pt x="5456" y="19351"/>
                </a:lnTo>
                <a:lnTo>
                  <a:pt x="3794" y="193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Some Examples of Original Productions Using EncycloMedia Content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838080" y="56786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e is a short movie created using “MovieMaker” which incorporates Encyclomedia Clips and images.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33" name="Picture 7" descr="6152"/>
          <p:cNvPicPr/>
          <p:nvPr/>
        </p:nvPicPr>
        <p:blipFill>
          <a:blip r:embed="rId1"/>
          <a:stretch/>
        </p:blipFill>
        <p:spPr>
          <a:xfrm>
            <a:off x="2057400" y="1447920"/>
            <a:ext cx="4419720" cy="393228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>
            <a:hlinkClick r:id="rId2" action="ppaction://hlinksldjump"/>
          </p:cNvPr>
          <p:cNvSpPr/>
          <p:nvPr/>
        </p:nvSpPr>
        <p:spPr>
          <a:xfrm>
            <a:off x="8305920" y="5410080"/>
            <a:ext cx="533160" cy="60984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704">
                <a:moveTo>
                  <a:pt x="0" y="0"/>
                </a:moveTo>
                <a:lnTo>
                  <a:pt x="21600" y="0"/>
                </a:lnTo>
                <a:lnTo>
                  <a:pt x="21600" y="24704"/>
                </a:lnTo>
                <a:lnTo>
                  <a:pt x="0" y="24704"/>
                </a:lnTo>
                <a:close/>
              </a:path>
              <a:path fill="lightenLess" w="21600" h="247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04">
                <a:moveTo>
                  <a:pt x="21600" y="0"/>
                </a:moveTo>
                <a:lnTo>
                  <a:pt x="21600" y="24704"/>
                </a:lnTo>
                <a:lnTo>
                  <a:pt x="20200" y="23304"/>
                </a:lnTo>
                <a:lnTo>
                  <a:pt x="20200" y="1400"/>
                </a:lnTo>
                <a:close/>
              </a:path>
              <a:path fill="darkenLess" w="21600" h="24704">
                <a:moveTo>
                  <a:pt x="21600" y="24704"/>
                </a:moveTo>
                <a:lnTo>
                  <a:pt x="0" y="24704"/>
                </a:lnTo>
                <a:lnTo>
                  <a:pt x="1400" y="23304"/>
                </a:lnTo>
                <a:lnTo>
                  <a:pt x="20200" y="23304"/>
                </a:lnTo>
                <a:close/>
              </a:path>
              <a:path fill="lighten" w="21600" h="24704">
                <a:moveTo>
                  <a:pt x="0" y="247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04"/>
                </a:lnTo>
                <a:close/>
              </a:path>
              <a:path fill="darken" w="21600" h="24704">
                <a:moveTo>
                  <a:pt x="7301" y="12352"/>
                </a:moveTo>
                <a:lnTo>
                  <a:pt x="17806" y="5346"/>
                </a:lnTo>
                <a:lnTo>
                  <a:pt x="17806" y="19359"/>
                </a:lnTo>
                <a:close/>
              </a:path>
              <a:path fill="darken" w="21600" h="24704">
                <a:moveTo>
                  <a:pt x="3794" y="5346"/>
                </a:moveTo>
                <a:lnTo>
                  <a:pt x="5456" y="5346"/>
                </a:lnTo>
                <a:lnTo>
                  <a:pt x="5456" y="19359"/>
                </a:lnTo>
                <a:lnTo>
                  <a:pt x="3794" y="1935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image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3"/>
          <p:cNvGrpSpPr/>
          <p:nvPr/>
        </p:nvGrpSpPr>
        <p:grpSpPr>
          <a:xfrm>
            <a:off x="4343400" y="4475160"/>
            <a:ext cx="1447200" cy="477360"/>
            <a:chOff x="4343400" y="4475160"/>
            <a:chExt cx="1447200" cy="477360"/>
          </a:xfrm>
        </p:grpSpPr>
        <p:sp>
          <p:nvSpPr>
            <p:cNvPr id="237" name="Text Box 4"/>
            <p:cNvSpPr/>
            <p:nvPr/>
          </p:nvSpPr>
          <p:spPr>
            <a:xfrm>
              <a:off x="4472640" y="4475160"/>
              <a:ext cx="1317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turn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38" name="Picture 5" descr="fileLink"/>
            <p:cNvPicPr/>
            <p:nvPr/>
          </p:nvPicPr>
          <p:blipFill>
            <a:blip r:embed="rId2"/>
            <a:stretch/>
          </p:blipFill>
          <p:spPr>
            <a:xfrm>
              <a:off x="4343400" y="47872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Group 6"/>
          <p:cNvGrpSpPr/>
          <p:nvPr/>
        </p:nvGrpSpPr>
        <p:grpSpPr>
          <a:xfrm>
            <a:off x="6203880" y="3789360"/>
            <a:ext cx="1491840" cy="477360"/>
            <a:chOff x="6203880" y="3789360"/>
            <a:chExt cx="1491840" cy="477360"/>
          </a:xfrm>
        </p:grpSpPr>
        <p:sp>
          <p:nvSpPr>
            <p:cNvPr id="240" name="Text Box 7"/>
            <p:cNvSpPr/>
            <p:nvPr/>
          </p:nvSpPr>
          <p:spPr>
            <a:xfrm>
              <a:off x="6333120" y="3789360"/>
              <a:ext cx="136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upiter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1" name="Picture 8" descr="fileLink(1)"/>
            <p:cNvPicPr/>
            <p:nvPr/>
          </p:nvPicPr>
          <p:blipFill>
            <a:blip r:embed="rId3"/>
            <a:stretch/>
          </p:blipFill>
          <p:spPr>
            <a:xfrm>
              <a:off x="6203880" y="4101480"/>
              <a:ext cx="205560" cy="16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Group 9"/>
          <p:cNvGrpSpPr/>
          <p:nvPr/>
        </p:nvGrpSpPr>
        <p:grpSpPr>
          <a:xfrm>
            <a:off x="2476440" y="1506600"/>
            <a:ext cx="1332720" cy="474120"/>
            <a:chOff x="2476440" y="1506600"/>
            <a:chExt cx="1332720" cy="474120"/>
          </a:xfrm>
        </p:grpSpPr>
        <p:sp>
          <p:nvSpPr>
            <p:cNvPr id="243" name="Text Box 10"/>
            <p:cNvSpPr/>
            <p:nvPr/>
          </p:nvSpPr>
          <p:spPr>
            <a:xfrm>
              <a:off x="2605680" y="1506600"/>
              <a:ext cx="1203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rs.asx</a:t>
              </a:r>
              <a:endParaRPr b="0" lang="en-US" sz="15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4" name="Picture 11" descr="fileLink(2)"/>
            <p:cNvPicPr/>
            <p:nvPr/>
          </p:nvPicPr>
          <p:blipFill>
            <a:blip r:embed="rId4"/>
            <a:stretch/>
          </p:blipFill>
          <p:spPr>
            <a:xfrm>
              <a:off x="2476440" y="1815840"/>
              <a:ext cx="205560" cy="16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Picture 12" descr="space station"/>
          <p:cNvPicPr/>
          <p:nvPr/>
        </p:nvPicPr>
        <p:blipFill>
          <a:blip r:embed="rId5"/>
          <a:stretch/>
        </p:blipFill>
        <p:spPr>
          <a:xfrm>
            <a:off x="914400" y="2552760"/>
            <a:ext cx="1917720" cy="118116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3"/>
          <p:cNvGrpSpPr/>
          <p:nvPr/>
        </p:nvGrpSpPr>
        <p:grpSpPr>
          <a:xfrm>
            <a:off x="838080" y="3370320"/>
            <a:ext cx="1836360" cy="439200"/>
            <a:chOff x="838080" y="3370320"/>
            <a:chExt cx="1836360" cy="439200"/>
          </a:xfrm>
        </p:grpSpPr>
        <p:sp>
          <p:nvSpPr>
            <p:cNvPr id="247" name="Text Box 14"/>
            <p:cNvSpPr/>
            <p:nvPr/>
          </p:nvSpPr>
          <p:spPr>
            <a:xfrm>
              <a:off x="967680" y="3370320"/>
              <a:ext cx="170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pace station.asx</a:t>
              </a:r>
              <a:endParaRPr b="0" lang="en-US" sz="1400" spc="-1" strike="noStrike">
                <a:solidFill>
                  <a:srgbClr val="000000"/>
                </a:solidFill>
                <a:latin typeface="Baskerville Old Face"/>
              </a:endParaRPr>
            </a:p>
          </p:txBody>
        </p:sp>
        <p:pic>
          <p:nvPicPr>
            <p:cNvPr id="248" name="Picture 15" descr="fileLink(3)"/>
            <p:cNvPicPr/>
            <p:nvPr/>
          </p:nvPicPr>
          <p:blipFill>
            <a:blip r:embed="rId6"/>
            <a:stretch/>
          </p:blipFill>
          <p:spPr>
            <a:xfrm>
              <a:off x="838080" y="3644640"/>
              <a:ext cx="205920" cy="1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Line 16"/>
          <p:cNvSpPr/>
          <p:nvPr/>
        </p:nvSpPr>
        <p:spPr>
          <a:xfrm flipV="1">
            <a:off x="2971800" y="2437920"/>
            <a:ext cx="868320" cy="825480"/>
          </a:xfrm>
          <a:prstGeom prst="line">
            <a:avLst/>
          </a:prstGeom>
          <a:ln w="76320">
            <a:solidFill>
              <a:srgbClr val="ffffe0"/>
            </a:solidFill>
            <a:miter/>
            <a:headEnd len="sm" type="triangle" w="med"/>
            <a:tailEnd len="sm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5638680" y="8683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e0"/>
                </a:solidFill>
                <a:latin typeface="Arial"/>
              </a:rPr>
              <a:t>Space Exploration and Planets</a:t>
            </a:r>
            <a:r>
              <a:rPr b="1" lang="en-US" sz="1400" spc="-1" strike="noStrike">
                <a:solidFill>
                  <a:srgbClr val="ffffe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KET EncycloMedia with Whiteboard Interface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7924680" y="5410080"/>
            <a:ext cx="533520" cy="60984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840"/>
              <a:gd name="textAreaBottom" fmla="*/ 575280 h 609840"/>
            </a:gdLst>
            <a:ahLst/>
            <a:rect l="textAreaLeft" t="textAreaTop" r="textAreaRight" b="textAreaBottom"/>
            <a:pathLst>
              <a:path w="21600" h="24688">
                <a:moveTo>
                  <a:pt x="0" y="0"/>
                </a:moveTo>
                <a:lnTo>
                  <a:pt x="21600" y="0"/>
                </a:lnTo>
                <a:lnTo>
                  <a:pt x="21600" y="24688"/>
                </a:lnTo>
                <a:lnTo>
                  <a:pt x="0" y="24688"/>
                </a:lnTo>
                <a:close/>
              </a:path>
              <a:path fill="lightenLess" w="21600" h="246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88">
                <a:moveTo>
                  <a:pt x="21600" y="0"/>
                </a:moveTo>
                <a:lnTo>
                  <a:pt x="21600" y="24688"/>
                </a:lnTo>
                <a:lnTo>
                  <a:pt x="20200" y="23288"/>
                </a:lnTo>
                <a:lnTo>
                  <a:pt x="20200" y="1400"/>
                </a:lnTo>
                <a:close/>
              </a:path>
              <a:path fill="darkenLess" w="21600" h="24688">
                <a:moveTo>
                  <a:pt x="21600" y="24688"/>
                </a:moveTo>
                <a:lnTo>
                  <a:pt x="0" y="24688"/>
                </a:lnTo>
                <a:lnTo>
                  <a:pt x="1400" y="23288"/>
                </a:lnTo>
                <a:lnTo>
                  <a:pt x="20200" y="23288"/>
                </a:lnTo>
                <a:close/>
              </a:path>
              <a:path fill="lighten" w="21600" h="24688">
                <a:moveTo>
                  <a:pt x="0" y="246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88"/>
                </a:lnTo>
                <a:close/>
              </a:path>
              <a:path fill="darken" w="21600" h="24688">
                <a:moveTo>
                  <a:pt x="7301" y="12344"/>
                </a:moveTo>
                <a:lnTo>
                  <a:pt x="17806" y="5337"/>
                </a:lnTo>
                <a:lnTo>
                  <a:pt x="17806" y="19350"/>
                </a:lnTo>
                <a:close/>
              </a:path>
              <a:path fill="darken" w="21600" h="24688">
                <a:moveTo>
                  <a:pt x="3794" y="5337"/>
                </a:moveTo>
                <a:lnTo>
                  <a:pt x="5456" y="5337"/>
                </a:lnTo>
                <a:lnTo>
                  <a:pt x="5456" y="19350"/>
                </a:lnTo>
                <a:lnTo>
                  <a:pt x="3794" y="193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304920" y="8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957"/>
                </a:solidFill>
                <a:latin typeface="Arial"/>
              </a:rPr>
              <a:t>Using EncycloMedia Content With VoiceThread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55" name="Action Button: Custom 3"/>
          <p:cNvSpPr/>
          <p:nvPr/>
        </p:nvSpPr>
        <p:spPr>
          <a:xfrm>
            <a:off x="304920" y="0"/>
            <a:ext cx="8381880" cy="685800"/>
          </a:xfrm>
          <a:custGeom>
            <a:avLst/>
            <a:gdLst>
              <a:gd name="textAreaLeft" fmla="*/ 44280 w 8381880"/>
              <a:gd name="textAreaRight" fmla="*/ 8337600 w 83818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869" h="21600">
                <a:moveTo>
                  <a:pt x="0" y="0"/>
                </a:moveTo>
                <a:lnTo>
                  <a:pt x="263869" y="0"/>
                </a:lnTo>
                <a:lnTo>
                  <a:pt x="263869" y="21600"/>
                </a:lnTo>
                <a:lnTo>
                  <a:pt x="0" y="21600"/>
                </a:lnTo>
                <a:close/>
              </a:path>
              <a:path fill="lightenLess" w="263869" h="21600">
                <a:moveTo>
                  <a:pt x="0" y="0"/>
                </a:moveTo>
                <a:lnTo>
                  <a:pt x="263869" y="0"/>
                </a:lnTo>
                <a:lnTo>
                  <a:pt x="262469" y="1400"/>
                </a:lnTo>
                <a:lnTo>
                  <a:pt x="1400" y="1400"/>
                </a:lnTo>
                <a:close/>
              </a:path>
              <a:path fill="darken" w="263869" h="21600">
                <a:moveTo>
                  <a:pt x="263869" y="0"/>
                </a:moveTo>
                <a:lnTo>
                  <a:pt x="263869" y="21600"/>
                </a:lnTo>
                <a:lnTo>
                  <a:pt x="262469" y="20200"/>
                </a:lnTo>
                <a:lnTo>
                  <a:pt x="262469" y="1400"/>
                </a:lnTo>
                <a:close/>
              </a:path>
              <a:path fill="darkenLess" w="263869" h="21600">
                <a:moveTo>
                  <a:pt x="26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469" y="20200"/>
                </a:lnTo>
                <a:close/>
              </a:path>
              <a:path fill="lighten" w="26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ive Use Of Video Learning Objects in Your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Instructional Video (ITV) into Your Less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295280" y="3195720"/>
            <a:ext cx="61722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KET Educational Services Provided to Kentucky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tructional Videos on the KET ED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T Encyclo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lectronic Field Trip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ts Tool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anc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acher’s Guides &amp; prin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MCj02810840000[1]"/>
          <p:cNvPicPr/>
          <p:nvPr/>
        </p:nvPicPr>
        <p:blipFill>
          <a:blip r:embed="rId1"/>
          <a:stretch/>
        </p:blipFill>
        <p:spPr>
          <a:xfrm>
            <a:off x="7162920" y="4038480"/>
            <a:ext cx="1734840" cy="253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MCj02335950000[1]"/>
          <p:cNvPicPr/>
          <p:nvPr/>
        </p:nvPicPr>
        <p:blipFill>
          <a:blip r:embed="rId2"/>
          <a:stretch/>
        </p:blipFill>
        <p:spPr>
          <a:xfrm>
            <a:off x="7086600" y="3962520"/>
            <a:ext cx="137160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The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media needs based on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e, PREVIEW, and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wnloa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less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e objective to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600" y="16002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view activity to introduc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using med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-viewing activity for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-up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MCj02335950000[1]"/>
          <p:cNvPicPr/>
          <p:nvPr/>
        </p:nvPicPr>
        <p:blipFill>
          <a:blip r:embed="rId1"/>
          <a:stretch/>
        </p:blipFill>
        <p:spPr>
          <a:xfrm>
            <a:off x="7315200" y="0"/>
            <a:ext cx="161928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7391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students know what you expect them to learn from the media.  What are they responsible for? 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hem to learn by us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ctivity to connect to pri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a graphic organiz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to help them record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analyze information th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see in 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923120" y="304920"/>
            <a:ext cx="54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e-viewing Activity</a:t>
            </a:r>
            <a:endParaRPr b="0" lang="en-US" sz="44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265" name="Picture 4" descr="MCPE02106_0000[1]"/>
          <p:cNvPicPr/>
          <p:nvPr/>
        </p:nvPicPr>
        <p:blipFill>
          <a:blip r:embed="rId1"/>
          <a:stretch/>
        </p:blipFill>
        <p:spPr>
          <a:xfrm>
            <a:off x="5905440" y="4064040"/>
            <a:ext cx="3162240" cy="271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ile viewing the medi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urn off all the lights if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with your students. (model the desired behav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ower of your media player to use the media intera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“Thumbs up” technique, graphic organizers, etc.  for interactiv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6248520" y="4808520"/>
            <a:ext cx="2819160" cy="18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View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0666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-up the media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tudents accountable fo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di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learning and involve oth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modalities through kinesthetic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immers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MCj02167380000[1]"/>
          <p:cNvPicPr/>
          <p:nvPr/>
        </p:nvPicPr>
        <p:blipFill>
          <a:blip r:embed="rId1"/>
          <a:stretch/>
        </p:blipFill>
        <p:spPr>
          <a:xfrm>
            <a:off x="6400800" y="5073480"/>
            <a:ext cx="2133720" cy="16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 Goes to School: The Impact of Video on Student Learning in Formal Education (Jan 2004). Provided by the Education Department Corporation for Public Broadcasting created by EDC’s Center for Children an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ow, F. R. (1997). Don’t turn off the lights! Tip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room use of ITV. Insighters Educ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l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er, J.L. &amp; Singer, D.G. (1983) Implications of 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 viewing for cogni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ation, and emotion. In J. Bryant and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erson, (Eds.) (198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ildren’s Understanding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levision: Research on atten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mprehens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Academic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9.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 reframed: Mu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elligences for the 21st century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: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dner, H. (1993)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e intelligences: Th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240" y="1371240"/>
            <a:ext cx="7010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for International Education/University of Wisconsin- Created:  May 17, 2001- Updated: 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right © 2005- Robert J. Beck, Ph.D- All rights reserved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scovery Education for access to KET EncycloMedia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this PowerPoint in whole or in part but please cite KET as the sourc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10440" cy="3801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4"/>
          <p:cNvSpPr/>
          <p:nvPr/>
        </p:nvSpPr>
        <p:spPr>
          <a:xfrm>
            <a:off x="1981080" y="914400"/>
            <a:ext cx="5486400" cy="3809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7391520" y="838080"/>
            <a:ext cx="0" cy="3886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981080" y="4648320"/>
            <a:ext cx="556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281" name="Line 7"/>
          <p:cNvSpPr/>
          <p:nvPr/>
        </p:nvSpPr>
        <p:spPr>
          <a:xfrm>
            <a:off x="1905120" y="4724280"/>
            <a:ext cx="556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1371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KET Professional Development Offering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6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0" y="2057400"/>
            <a:ext cx="1889280" cy="4800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/>
          <p:cNvPicPr/>
          <p:nvPr/>
        </p:nvPicPr>
        <p:blipFill>
          <a:blip r:embed="rId3"/>
          <a:stretch/>
        </p:blipFill>
        <p:spPr>
          <a:xfrm>
            <a:off x="5638680" y="4343400"/>
            <a:ext cx="3200400" cy="170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971800" y="62485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18"/>
                </a:solidFill>
                <a:latin typeface="Arial"/>
              </a:rPr>
              <a:t>www.ket.org/education/professional/</a:t>
            </a:r>
            <a:endParaRPr b="0" lang="en-US" sz="20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66" name="Action Button: Custom 19">
            <a:hlinkClick r:id="rId4"/>
          </p:cNvPr>
          <p:cNvSpPr/>
          <p:nvPr/>
        </p:nvSpPr>
        <p:spPr>
          <a:xfrm>
            <a:off x="2895480" y="6248520"/>
            <a:ext cx="4724640" cy="457200"/>
          </a:xfrm>
          <a:custGeom>
            <a:avLst/>
            <a:gdLst>
              <a:gd name="textAreaLeft" fmla="*/ 29520 w 4724640"/>
              <a:gd name="textAreaRight" fmla="*/ 4695120 w 4724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3053" h="21600">
                <a:moveTo>
                  <a:pt x="0" y="0"/>
                </a:moveTo>
                <a:lnTo>
                  <a:pt x="223053" y="0"/>
                </a:lnTo>
                <a:lnTo>
                  <a:pt x="223053" y="21600"/>
                </a:lnTo>
                <a:lnTo>
                  <a:pt x="0" y="21600"/>
                </a:lnTo>
                <a:close/>
              </a:path>
              <a:path fill="lightenLess" w="223053" h="21600">
                <a:moveTo>
                  <a:pt x="0" y="0"/>
                </a:moveTo>
                <a:lnTo>
                  <a:pt x="223053" y="0"/>
                </a:lnTo>
                <a:lnTo>
                  <a:pt x="221653" y="1400"/>
                </a:lnTo>
                <a:lnTo>
                  <a:pt x="1400" y="1400"/>
                </a:lnTo>
                <a:close/>
              </a:path>
              <a:path fill="darken" w="223053" h="21600">
                <a:moveTo>
                  <a:pt x="223053" y="0"/>
                </a:moveTo>
                <a:lnTo>
                  <a:pt x="223053" y="21600"/>
                </a:lnTo>
                <a:lnTo>
                  <a:pt x="221653" y="20200"/>
                </a:lnTo>
                <a:lnTo>
                  <a:pt x="221653" y="1400"/>
                </a:lnTo>
                <a:close/>
              </a:path>
              <a:path fill="darkenLess" w="223053" h="21600">
                <a:moveTo>
                  <a:pt x="223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53" y="20200"/>
                </a:lnTo>
                <a:close/>
              </a:path>
              <a:path fill="lighten" w="223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5"/>
          <a:stretch/>
        </p:blipFill>
        <p:spPr>
          <a:xfrm>
            <a:off x="2225520" y="4343400"/>
            <a:ext cx="31845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"/>
          <p:cNvPicPr/>
          <p:nvPr/>
        </p:nvPicPr>
        <p:blipFill>
          <a:blip r:embed="rId6"/>
          <a:stretch/>
        </p:blipFill>
        <p:spPr>
          <a:xfrm>
            <a:off x="3733920" y="2286000"/>
            <a:ext cx="3330360" cy="1752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9"/>
          <p:cNvSpPr/>
          <p:nvPr/>
        </p:nvSpPr>
        <p:spPr>
          <a:xfrm>
            <a:off x="0" y="1295280"/>
            <a:ext cx="9144000" cy="7621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632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signed to help teachers plan and implement lessons about nonpoint source wate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a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ad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bject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unded in part by a grant from the U.S. Environmental Protection Agency under §319(h) of the Clean Water Act. Administered through the KY Division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Ravie"/>
              </a:rPr>
              <a:t>The Arts Toolkit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35816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ma Toolkit (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sed (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ome_drama"/>
          <p:cNvPicPr/>
          <p:nvPr/>
        </p:nvPicPr>
        <p:blipFill>
          <a:blip r:embed="rId1"/>
          <a:stretch/>
        </p:blipFill>
        <p:spPr>
          <a:xfrm>
            <a:off x="4419720" y="1219320"/>
            <a:ext cx="1962000" cy="130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home_dance"/>
          <p:cNvPicPr/>
          <p:nvPr/>
        </p:nvPicPr>
        <p:blipFill>
          <a:blip r:embed="rId2"/>
          <a:stretch/>
        </p:blipFill>
        <p:spPr>
          <a:xfrm>
            <a:off x="2514600" y="2590920"/>
            <a:ext cx="1943280" cy="130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ome_music"/>
          <p:cNvPicPr/>
          <p:nvPr/>
        </p:nvPicPr>
        <p:blipFill>
          <a:blip r:embed="rId3"/>
          <a:stretch/>
        </p:blipFill>
        <p:spPr>
          <a:xfrm>
            <a:off x="2514600" y="5257800"/>
            <a:ext cx="1943280" cy="1305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home_visarts"/>
          <p:cNvPicPr/>
          <p:nvPr/>
        </p:nvPicPr>
        <p:blipFill>
          <a:blip r:embed="rId4"/>
          <a:stretch/>
        </p:blipFill>
        <p:spPr>
          <a:xfrm>
            <a:off x="4495680" y="3962520"/>
            <a:ext cx="1962360" cy="1304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914400" y="1905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6324480" y="136836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 NETA’s Instructional Media Product Award and  Best of the Best Award 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6553080" y="4137120"/>
            <a:ext cx="251460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Winner of NETA’s Best Instructional Media Product Award 2006!</a:t>
            </a: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762120" y="4114800"/>
            <a:ext cx="31240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Arts Toolkit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(2005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800600" y="2900520"/>
            <a:ext cx="39625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ce Toolkit (2004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Being Revised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952880" y="5486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ic Arts Toolki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007 Now Available)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800"/>
                            </p:stCondLst>
                            <p:childTnLst>
                              <p:par>
                                <p:cTn id="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olki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hours of  Video in 3 D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of Dance and Music 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anded binder of Lesson Plans and Information correlated to 4.1 co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Po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ce Idea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s Toolkit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>
            <a:hlinkClick r:id="rId1"/>
          </p:cNvPr>
          <p:cNvSpPr/>
          <p:nvPr/>
        </p:nvSpPr>
        <p:spPr>
          <a:xfrm>
            <a:off x="3886200" y="6014880"/>
            <a:ext cx="5029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ket.org/artstoolkit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6" name="Action Button: Custom 7">
            <a:hlinkClick r:id="rId2"/>
          </p:cNvPr>
          <p:cNvSpPr/>
          <p:nvPr/>
        </p:nvSpPr>
        <p:spPr>
          <a:xfrm>
            <a:off x="1828800" y="2286000"/>
            <a:ext cx="5562720" cy="609480"/>
          </a:xfrm>
          <a:custGeom>
            <a:avLst/>
            <a:gdLst>
              <a:gd name="textAreaLeft" fmla="*/ 39240 w 5562720"/>
              <a:gd name="textAreaRight" fmla="*/ 5523480 w 5562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7039" h="21600">
                <a:moveTo>
                  <a:pt x="0" y="0"/>
                </a:moveTo>
                <a:lnTo>
                  <a:pt x="197039" y="0"/>
                </a:lnTo>
                <a:lnTo>
                  <a:pt x="197039" y="21600"/>
                </a:lnTo>
                <a:lnTo>
                  <a:pt x="0" y="21600"/>
                </a:lnTo>
                <a:close/>
              </a:path>
              <a:path fill="lightenLess" w="197039" h="21600">
                <a:moveTo>
                  <a:pt x="0" y="0"/>
                </a:moveTo>
                <a:lnTo>
                  <a:pt x="197039" y="0"/>
                </a:lnTo>
                <a:lnTo>
                  <a:pt x="195639" y="1400"/>
                </a:lnTo>
                <a:lnTo>
                  <a:pt x="1400" y="1400"/>
                </a:lnTo>
                <a:close/>
              </a:path>
              <a:path fill="darken" w="197039" h="21600">
                <a:moveTo>
                  <a:pt x="197039" y="0"/>
                </a:moveTo>
                <a:lnTo>
                  <a:pt x="197039" y="21600"/>
                </a:lnTo>
                <a:lnTo>
                  <a:pt x="195639" y="20200"/>
                </a:lnTo>
                <a:lnTo>
                  <a:pt x="195639" y="1400"/>
                </a:lnTo>
                <a:close/>
              </a:path>
              <a:path fill="darkenLess" w="197039" h="21600">
                <a:moveTo>
                  <a:pt x="197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39" y="20200"/>
                </a:lnTo>
                <a:close/>
              </a:path>
              <a:path fill="lighten" w="197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0" y="22093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sed Dance Toolkit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now availab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T Distance Learning</a:t>
            </a:r>
            <a:br>
              <a:rPr sz="4000"/>
            </a:br>
            <a:br>
              <a:rPr sz="100"/>
            </a:br>
            <a:r>
              <a:rPr b="1" lang="en-US" sz="100" spc="-1" strike="noStrike">
                <a:solidFill>
                  <a:srgbClr val="ffff00"/>
                </a:solidFill>
                <a:latin typeface="Arial"/>
              </a:rPr>
              <a:t>http:/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19320"/>
            <a:ext cx="8610480" cy="5457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676520" y="6192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ww.dl.ket.org/physicslabs/labs/</a:t>
            </a:r>
            <a:endParaRPr b="0" lang="en-US" sz="2800" spc="-1" strike="noStrike">
              <a:solidFill>
                <a:srgbClr val="000000"/>
              </a:solidFill>
              <a:latin typeface="Baskerville Old Face"/>
            </a:endParaRPr>
          </a:p>
        </p:txBody>
      </p:sp>
      <p:pic>
        <p:nvPicPr>
          <p:cNvPr id="92" name="Picture 5" descr="C:\Documents and Settings\lmoore\Local Settings\Temporary Internet Files\Content.IE5\87ZFKFYD\MCj02953610000[1].wmf"/>
          <p:cNvPicPr/>
          <p:nvPr/>
        </p:nvPicPr>
        <p:blipFill>
          <a:blip r:embed="rId3"/>
          <a:stretch/>
        </p:blipFill>
        <p:spPr>
          <a:xfrm>
            <a:off x="7696080" y="0"/>
            <a:ext cx="127476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lmoore\Local Settings\Temporary Internet Files\Content.IE5\87ZFKFYD\MCj02953610000[1].wmf"/>
          <p:cNvPicPr/>
          <p:nvPr/>
        </p:nvPicPr>
        <p:blipFill>
          <a:blip r:embed="rId4"/>
          <a:stretch/>
        </p:blipFill>
        <p:spPr>
          <a:xfrm flipH="1">
            <a:off x="22824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ield Trip to a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s of the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mmoth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uisville Zo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EFT'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57200"/>
            <a:ext cx="7696440" cy="17985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76320" y="22860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hese are the field trips produced by KET that have Environmental Science Content!</a:t>
            </a:r>
            <a:endParaRPr b="0" lang="en-US" sz="24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143000" y="612144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ww.ket.org/trips</a:t>
            </a:r>
            <a:endParaRPr b="0" lang="en-US" sz="3200" spc="-1" strike="noStrike">
              <a:solidFill>
                <a:srgbClr val="000000"/>
              </a:solidFill>
              <a:latin typeface="Baskerville Old Face"/>
            </a:endParaRPr>
          </a:p>
        </p:txBody>
      </p:sp>
      <p:sp>
        <p:nvSpPr>
          <p:cNvPr id="98" name="Action Button: Custom 6">
            <a:hlinkClick r:id="rId3"/>
          </p:cNvPr>
          <p:cNvSpPr/>
          <p:nvPr/>
        </p:nvSpPr>
        <p:spPr>
          <a:xfrm>
            <a:off x="2590920" y="6095880"/>
            <a:ext cx="3733560" cy="533520"/>
          </a:xfrm>
          <a:custGeom>
            <a:avLst/>
            <a:gdLst>
              <a:gd name="textAreaLeft" fmla="*/ 34560 w 3733560"/>
              <a:gd name="textAreaRight" fmla="*/ 3699000 w 37335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51069" h="21600">
                <a:moveTo>
                  <a:pt x="0" y="0"/>
                </a:moveTo>
                <a:lnTo>
                  <a:pt x="151069" y="0"/>
                </a:lnTo>
                <a:lnTo>
                  <a:pt x="151069" y="21600"/>
                </a:lnTo>
                <a:lnTo>
                  <a:pt x="0" y="21600"/>
                </a:lnTo>
                <a:close/>
              </a:path>
              <a:path fill="lightenLess" w="151069" h="21600">
                <a:moveTo>
                  <a:pt x="0" y="0"/>
                </a:moveTo>
                <a:lnTo>
                  <a:pt x="151069" y="0"/>
                </a:lnTo>
                <a:lnTo>
                  <a:pt x="149669" y="1400"/>
                </a:lnTo>
                <a:lnTo>
                  <a:pt x="1400" y="1400"/>
                </a:lnTo>
                <a:close/>
              </a:path>
              <a:path fill="darken" w="151069" h="21600">
                <a:moveTo>
                  <a:pt x="151069" y="0"/>
                </a:moveTo>
                <a:lnTo>
                  <a:pt x="151069" y="21600"/>
                </a:lnTo>
                <a:lnTo>
                  <a:pt x="149669" y="20200"/>
                </a:lnTo>
                <a:lnTo>
                  <a:pt x="149669" y="1400"/>
                </a:lnTo>
                <a:close/>
              </a:path>
              <a:path fill="darkenLess" w="151069" h="21600">
                <a:moveTo>
                  <a:pt x="1510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669" y="20200"/>
                </a:lnTo>
                <a:close/>
              </a:path>
              <a:path fill="lighten" w="1510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askerville Old Fac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38:06Z</dcterms:created>
  <dc:creator>Missi Baker</dc:creator>
  <dc:description/>
  <dc:language>en-US</dc:language>
  <cp:lastModifiedBy>lmoore</cp:lastModifiedBy>
  <dcterms:modified xsi:type="dcterms:W3CDTF">2008-09-12T02:47:33Z</dcterms:modified>
  <cp:revision>195</cp:revision>
  <dc:subject/>
  <dc:title>Slide 1</dc:title>
</cp:coreProperties>
</file>